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3A2-B105-4C8D-A641-788ED721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A4A-07E9-43E8-8770-C7DC1996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33D-85F4-4E06-87DF-219CAD49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285-4BE5-40DB-8983-0D57DAD1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60AE-F470-4520-BB68-27E0C80E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F952-A1FE-4041-A32D-956754B0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D1B9-B38E-4645-A54A-00FB3824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6187-39DD-4673-AE2F-62C0E261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8B32-9271-47DA-BEE6-DBC826AF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8BA8-E54E-4062-855F-CBB60935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02ED-AF13-44E8-BEEE-1771814E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AA7-B4C4-47E3-B6D3-0F7A1359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6FF7-DD72-4B4B-9029-E545A10D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070A-8283-4624-9A17-ED01C7E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616B-768A-43B7-8ABE-B1C68153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BE83-BE6E-4F1A-9E93-F6903CEA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4010-BBFC-48F9-A3A5-A2FD3F83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3C6-3539-4B1A-91DC-CC4B90B3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AC5-2FE4-4E17-8276-8BD36CB6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0AE-0910-4A96-ACC2-227D39D9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55E-86EA-4CEC-A598-57A68EC8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40C-AE97-496A-A990-0C950449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0230-A87C-43DA-A3A2-27D38EDA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C8F-52B4-4C4D-AA87-196EF805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B9FC-318E-4E72-BC15-604AD621A364}" type="slidenum"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B165-5A8E-4445-B207-A7FB9F7B97FB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eteproject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5400" spc="-1" strike="noStrike">
                <a:solidFill>
                  <a:srgbClr val="b9efee"/>
                </a:solidFill>
                <a:latin typeface="Garamond"/>
              </a:rPr>
              <a:t>POÉTE</a:t>
            </a:r>
            <a:br>
              <a:rPr sz="5400"/>
            </a:br>
            <a:r>
              <a:rPr b="1" lang="nb-NO" sz="5400" spc="-1" strike="noStrike">
                <a:solidFill>
                  <a:srgbClr val="b9efee"/>
                </a:solidFill>
                <a:latin typeface="Garamond"/>
              </a:rPr>
              <a:t>Leonardo da Vinci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Lifelong Learning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Tanker etter seminar i Frankrike, Norge og Fin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ngvild Espelien og Bente Ry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Tanken ba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Dette er ett arbeidsverktøy for praktisk øving i arbeidsliv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Å få kompetente studenter klare for arbeidsliv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Å la studenten få eierforhold til læring og vurde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Å ha gode bevis på  hva studenten har gjennomgått av opplæring/ tr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Portefolio of evid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Bevis på kompetan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En mappe/ samling med dokumenter og lignende som beviser hva eleven har gj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som dem kunstnere bruker sammen med c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Læringsverktø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Hjelper eleven til å læ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læreren til å vurdere både underveis og til slut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Portefolio of evide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Kan innehol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Dagbok/ logg og case/ histori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Prosjek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Profesjonelle diskusjon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Vitneforklaringer (eks fra arbeidsgiver el lære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Skjemaer med kriterier/ kompetansemå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Bild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Fil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Andre form for bevis på kompetanse (eks ferdige arbeider, resultate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Læringsprosessen – hvor er vi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303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Lærer underviser elev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Tavleundervis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cc00"/>
                </a:solidFill>
                <a:latin typeface="Garamond"/>
              </a:rPr>
              <a:t>Lær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Læreren tilretteleg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Læringen er elevsentre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492360" y="1773360"/>
            <a:ext cx="20163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Avhengi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0066"/>
                </a:solidFill>
                <a:latin typeface="Garamond"/>
              </a:rPr>
              <a:t>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Uavhengi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651640" y="1773360"/>
            <a:ext cx="30351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Tradisjonell undervis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ffff"/>
                </a:solidFill>
                <a:latin typeface="Garamond"/>
              </a:rPr>
              <a:t>Arbeidsbasert læring med utvikling av ferdigheter og kunnsk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4284720" y="278136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1619280" y="2852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1619280" y="429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4284720" y="4365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7020000" y="285264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Gjennomføring av dette bety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Læreren  blir organisator i stedet for instruktø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Eleven får større ansvar og eierforhold for egen læ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Eleven lærer å lære selv – livslang læ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Arbeidsgiver i utplassering og lærlingested må ta aktivt del i opplær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http://www.poeteproject.o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4400" spc="-1" strike="noStrike">
                <a:solidFill>
                  <a:srgbClr val="b9efee"/>
                </a:solidFill>
                <a:latin typeface="Garamond"/>
              </a:rPr>
              <a:t>På Skjetlei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PTF – dokumentasj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Samarbeid mellom norsklærere (eventuelt engelsklærere) og PTF - lærere mht til å bruke tid på å få struktur på sin </a:t>
            </a:r>
            <a:r>
              <a:rPr b="0" i="1" lang="nb-NO" sz="3200" spc="-1" strike="noStrike">
                <a:solidFill>
                  <a:srgbClr val="ffffff"/>
                </a:solidFill>
                <a:latin typeface="Garamond"/>
              </a:rPr>
              <a:t>portfolio of evi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Bruker fronter som arena for innlevering og veiledning underveis i arbeidet med mapp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Vi har kommet lengre enn mange andre land i dette arbeide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7:38:46Z</dcterms:created>
  <dc:creator>Bente Ryen</dc:creator>
  <dc:description/>
  <dc:language>en-US</dc:language>
  <cp:lastModifiedBy>benry</cp:lastModifiedBy>
  <dcterms:modified xsi:type="dcterms:W3CDTF">2011-01-28T08:34:18Z</dcterms:modified>
  <cp:revision>11</cp:revision>
  <dc:subject/>
  <dc:title>POÉTE Leonardo da Vinci</dc:title>
</cp:coreProperties>
</file>